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4BA-7C4C-4D97-8BF6-85672812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86B-E214-4E85-8249-5C9B56E4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79C-A756-4141-A68D-FB87A55F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B5D-910B-47E9-9463-FC69C455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1A7F-E249-4118-A22A-95E4E1DB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1DD1-A0C8-43BE-85B2-38C8ECBA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8E9E-0CD8-41AC-B0C4-A0BD60FD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DC1A-1B7B-454A-9EC0-CE850488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0E69-0B96-44A3-9258-FF82B981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A68D-F463-45C8-A315-42C24E21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373F-0B07-45C4-A434-EBF5D90C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DEF-C9DA-4275-B896-8291648F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B6A5-5FE6-4E36-904A-2E36745C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5CD3-03AB-41DF-8D6F-D605842A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6AC5-739E-450E-94A6-58268EF1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6857-BDE8-42B6-948C-A9491026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813C-DBE7-41B1-A8A7-354CB885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111-7F85-4525-B710-69C67B83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37A-B713-4C03-ABE4-3B5C2C78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302-20AC-49C6-AB6D-A2199F89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6D6-8A5F-49BE-B574-5850DEBD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3E4-20C3-4C8A-95B7-E0B56E05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9A4-656B-4339-B509-4B54214B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E31-C400-4EC6-84D1-8F254391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DE71-6DAC-47FD-B5B7-C55F96194A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267D-B8BE-4503-9A2E-36EFFEFF66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lingue.com/es/Pa&#237;ses_Baixos" TargetMode="External"/><Relationship Id="rId2" Type="http://schemas.openxmlformats.org/officeDocument/2006/relationships/hyperlink" Target="http://pt.wikilingue.com/es/Johannes_Vermeer" TargetMode="External"/><Relationship Id="rId3" Type="http://schemas.openxmlformats.org/officeDocument/2006/relationships/hyperlink" Target="http://pt.wikilingue.com/es/Johannes_Vermeer" TargetMode="External"/><Relationship Id="rId4" Type="http://schemas.openxmlformats.org/officeDocument/2006/relationships/hyperlink" Target="http://pt.wikilingue.com/es/Pintura_ao_&#243;leo" TargetMode="External"/><Relationship Id="rId5" Type="http://schemas.openxmlformats.org/officeDocument/2006/relationships/hyperlink" Target="http://pt.wikilingue.com/es/Lienzo" TargetMode="External"/><Relationship Id="rId6" Type="http://schemas.openxmlformats.org/officeDocument/2006/relationships/hyperlink" Target="http://pt.wikilingue.com/es/1663" TargetMode="External"/><Relationship Id="rId7" Type="http://schemas.openxmlformats.org/officeDocument/2006/relationships/hyperlink" Target="http://pt.wikilingue.com/es/1664" TargetMode="External"/><Relationship Id="rId8" Type="http://schemas.openxmlformats.org/officeDocument/2006/relationships/hyperlink" Target="http://pt.wikilingue.com/es/Cent&#237;metro" TargetMode="External"/><Relationship Id="rId9" Type="http://schemas.openxmlformats.org/officeDocument/2006/relationships/hyperlink" Target="http://pt.wikilingue.com/es/Rijksmuseum" TargetMode="External"/><Relationship Id="rId10" Type="http://schemas.openxmlformats.org/officeDocument/2006/relationships/hyperlink" Target="http://pt.wikilingue.com/es/&#193;msterdam" TargetMode="External"/><Relationship Id="rId11" Type="http://schemas.openxmlformats.org/officeDocument/2006/relationships/hyperlink" Target="http://pt.wikilingue.com/es/Pa&#237;ses_Baixos" TargetMode="Externa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Mulher Lendo Carta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utor:Verm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Georgia"/>
              </a:rPr>
              <a:t>Mulher Lendo Car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1519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Vermeer+-+Mulher+lendo+uma+carta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1649520"/>
            <a:ext cx="8207280" cy="441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ografia Da Obra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Comic Sans MS"/>
              </a:rPr>
              <a:t>Mulher lendo uma carta (em Idioma neerlandés|neerlandés]], Brieflezende vrouw in het blauw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), é uma obra do pintor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1"/>
              </a:rPr>
              <a:t>holandês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2"/>
              </a:rPr>
              <a:t>Johannes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3"/>
              </a:rPr>
              <a:t> Vermeer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. Está realizada à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4"/>
              </a:rPr>
              <a:t>óleo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 sobre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5"/>
              </a:rPr>
              <a:t>lienzo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. Foi pintada em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6"/>
              </a:rPr>
              <a:t>1663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7"/>
              </a:rPr>
              <a:t>1664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. Mede 46,6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8"/>
              </a:rPr>
              <a:t>cm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 de alto e 39,1 cm de largo. Conserva-se no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9"/>
              </a:rPr>
              <a:t>Rijksmuseum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 de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10"/>
              </a:rPr>
              <a:t>Ámsterdam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11"/>
              </a:rPr>
              <a:t>Países Baixos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Biografia Da Obra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600" spc="-1" strike="noStrike" baseline="1000">
                <a:solidFill>
                  <a:srgbClr val="ffffff"/>
                </a:solidFill>
                <a:latin typeface="Comic Sans MS"/>
              </a:rPr>
              <a:t>Como ocorre com A jovem da pérola, a figura solitária de uma mulher permanece em pé, inmersa em seus pensamentos, desta vez no centro da composição. Lê uma carta e parece completamente absorta em isso.[1]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600" spc="-1" strike="noStrike" baseline="1000">
                <a:solidFill>
                  <a:srgbClr val="ffffff"/>
                </a:solidFill>
                <a:latin typeface="Comic Sans MS"/>
              </a:rPr>
              <a:t>Esta pintura destaca pela simplicidadade </a:t>
            </a:r>
            <a:r>
              <a:rPr b="0" i="1" lang="pt-PT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pt-PT" sz="3600" spc="-1" strike="noStrike" baseline="1000">
                <a:solidFill>
                  <a:srgbClr val="ffffff"/>
                </a:solidFill>
                <a:latin typeface="Comic Sans MS"/>
              </a:rPr>
              <a:t>da composição, que elimina a anteriormente obrigatória janela de chumbo à esquerda. Inclusive as cadeiras e a mesa que rodeiam à principal e solitária figura têm perdido sua importância. Só o mapa sobre a parede rompe a uniformidad. A paleta de Vermeer fez-se muito delicada e sofisticada. Predomina o azul usada de maneira ampla na jaqueta da mulher.[2]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Biografia Da Obra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Comic Sans MS"/>
              </a:rPr>
              <a:t>O primeiro plano de novo vontade em énfasis segundo os preceitos derivados do telescópio investido. Se não, o espectador se enfrenta somente com a majestade pura da figura principal, colocada contra a parede clara, cuja luminosidade está equibrada pelo mapa pardusco. Em seu simplicidad clássica, grandeza e conceito quase abstracto, esta é uma das obras mestres de Verme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Monotype Corsiva"/>
              </a:rPr>
              <a:t>FIM...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22:26:45Z</dcterms:created>
  <dc:creator>WINDOWS XP</dc:creator>
  <dc:description/>
  <dc:language>en-US</dc:language>
  <cp:lastModifiedBy>WINDOWS XP</cp:lastModifiedBy>
  <dcterms:modified xsi:type="dcterms:W3CDTF">2010-10-20T22:46:37Z</dcterms:modified>
  <cp:revision>2</cp:revision>
  <dc:subject/>
  <dc:title>Mulher Lendo Carta.</dc:title>
</cp:coreProperties>
</file>